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65AD-FC79-42AC-98B9-7D9A2C56F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28C2-4353-4BA0-B8EB-E801369DA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2C5C-5BE2-413E-8996-B5793C862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E205-5C1E-469B-95CB-D5F27FF7A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8C2C3-D525-4904-BCF4-CB469E11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62B55-C3AF-4996-A3BD-07C4F25E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14A5F-82BC-4026-B071-CB2786F7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5BEA8-335E-46DA-9CD6-E0C7C9E5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75F1A-F349-47B0-A8CD-BA6D6104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E5323-DF62-4B0C-A50D-167FE152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C8FA8-33C2-40A7-9919-EBADF89C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3607-CF14-4F31-864E-1F19B9043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B34AF-4E16-4632-951F-0E8DD3E5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E162B-FB03-4631-89E2-F3128D64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2CE00-7B11-49A6-B220-B92A9E8F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AFF3C-BD5B-4A6B-835F-5A813699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5C452-6159-4EBA-889C-C1080AD1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592F-3A74-411E-A780-EF1B84B18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7E04-B6A0-47C1-957E-9453DB40D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359D-B297-4A17-B4A4-B2CD6FDDF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BFF7-E415-4664-BDE1-1125D361C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EF13-075C-43E5-92DE-C564F9E7B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B1B0-C6E0-44BD-B85A-53E19B38F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8C80-2ED5-4A71-8243-447E746A9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E30F-2D5F-4870-BD8A-9253C17E1769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2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4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510B-14F1-4FE5-9197-F57F6F566599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s://www.alims.gov.rs/ciril/lekovi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93720"/>
            <a:ext cx="9144000" cy="10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НТЕГРИСАНЕ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АКАДЕМСКЕ СТУДИЈЕ ФАРМАЦИЈЕ</a:t>
            </a: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здавање лекова у пракси</a:t>
            </a:r>
            <a:br>
              <a:rPr sz="2500"/>
            </a:br>
            <a:br>
              <a:rPr sz="1500"/>
            </a:br>
            <a:r>
              <a:rPr b="1" lang="sr-CS" sz="2500" spc="-1" strike="noStrike">
                <a:solidFill>
                  <a:srgbClr val="cc0000"/>
                </a:solidFill>
                <a:latin typeface="Candara"/>
              </a:rPr>
              <a:t>Предавање </a:t>
            </a:r>
            <a:r>
              <a:rPr b="1" lang="sr-Latn-CS" sz="2500" spc="-1" strike="noStrike">
                <a:solidFill>
                  <a:srgbClr val="cc0000"/>
                </a:solidFill>
                <a:latin typeface="Candara"/>
              </a:rPr>
              <a:t>11</a:t>
            </a:r>
            <a:endParaRPr b="1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3286080"/>
            <a:ext cx="842472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Candara"/>
              </a:rPr>
              <a:t>Упозорења за пацијенте који користе оралне антикоагулансе</a:t>
            </a:r>
            <a:endParaRPr b="0" lang="en-US" sz="38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Доц. др Милена Јуришевић</a:t>
            </a:r>
            <a:r>
              <a:rPr b="1" lang="sr-Latn-CS" sz="3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Варфарин Индикације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80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ревенциј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емболије код дубоке венске тромбоз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ревенциј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тромбозе после уградње вештачких валвула у срцу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ревенциј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тромбозе код анеуризме срц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ревенциј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тромбо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емболијских компликација код атријалне фибрилације услед митралне стенозе или неке болести миокарда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Смањење ефекта варфарин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6040" y="1609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Смањена апсорпција лека због везивања за холестирамин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4400" indent="-28440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овећан волумен дистрибуције и скраћено време полуелиминације због хипопротеинемиј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4400" indent="-28440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Индук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ан метаболизам варфарина под дејством карбамазепина,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фенобарбитала, кантариона,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 фенитоина, преднизона, барбитурата и рифампицин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4400" indent="-28440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Орални контрацептиви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4400" indent="-28440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Уношење витамина К у великим количинама путем хране или мултивитаминских препарат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4400" indent="-28440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Хипотиреоидизам – у овој болести долази до смањења разградње фактора коагулациј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84400" indent="-28440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икотин, повећање тежине, дијареја, повраћањ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Повећање ефекта варфарин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Код смањења синтезе фактора коагулације у јетри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Стања која прате убрзани метаболички процеси- вишока телесна температура, тиреотоксикоз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бог инхибиције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таболизма -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циметидином, амјодароном, ципрофлоксацином, кларитомицином, еритромицином, метронидазолом, флуоксетином, изониазидом, клопидогрелом, триметоприм-сулфаметоксазолом, зафирлукастом, росувастатином, офлоксацином, кетоконазолом, итд..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Конзумирање сока од бруснице, грејпфрута...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осебно остељиве старије особе (65 и више година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Повећање ефекта варфарин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503000"/>
            <a:ext cx="8280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Настаје: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риликом истовремене примене аспирина као антиагрегационог лека или других НСАИЛ, који могу повећати ризик од крварења али и инхибиције матаболизма (неки НСАИЛ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од дејством валпроата , НСАИЛ или диуретика Хенлеове петље, услед истискивања варфарина из везе са албуминима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Лекови који инхибишу редукцију витамина к-неки цефалоспорин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Лекови који смањују искористљивост витамина К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риликом дуготрајне примене антибиотика (широког спктра и неких сулфонамида), због уништења микробне флоре у колону, а тиме и смањења синтезе менахинона (витамина К2)- нема клиничког значаја осим уколико нема знакова малнутрициј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Губтак тежине, престанак конзумирања никоти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8036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ежељена дејства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ојава крв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у дигестивном тракту и ЦНС-у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948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ромбоза поткожних вена са некрозом масног ткива (у дојкама и глутеалном пределу, због снижења активности протеина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у плазми) и, ретко, оштећење јетре.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595080" indent="-29880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Тромбоза поткожних вена се јавља на самом почетку терапије (у прва 2-3 дана), док још није успостављен антикоагулантни ефекат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(инхибиција биосинтезе протеина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C/S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) – хепарин+варфарин на почетку лечења да би се избегао овај проблем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294840" indent="-29484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Ретко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дијареја, алопеција, некроза танког црева и ливидни прсти на стопалим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94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онтраиндик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ације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62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реосетљивост на варфарин или помоћне супстанц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Хеморагијски мождани удар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линички значајно крверењ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Трудноћа (тератоген; 1 и 3 триместар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Унутар 72 часа од опсежне хиру</a:t>
            </a:r>
            <a:r>
              <a:rPr b="0" lang="sr-R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е интервенције са ризиком од озбиљног крв</a:t>
            </a:r>
            <a:r>
              <a:rPr b="0" lang="sr-RS" sz="25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(терапију треба прекинути бар 3 дана пре операције са високим ризиком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Унутар 48 часова од порођај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онтраиндик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ације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/Посебна упозорењ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62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ептички улкус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Дијастолни притисак изнад 110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mmHg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Б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ктеријск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ендокардитис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зофагеални варикозитети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ромбоцитопениј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Тромбофилиј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зражено оштећење јетре/ злоупотреба алкохол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Бубрежна инсуфицијенција (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End stage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ГИ, ИК у поседњих 30 дан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арфарин не треба давати пацијентима који су доживели тромбоцитопенију изазвану хепарином</a:t>
            </a:r>
            <a:r>
              <a:rPr b="0" lang="sr-Latn-CS" sz="18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олази до мултицентричних некроза коже и гангрене екстремитета</a:t>
            </a:r>
            <a:r>
              <a:rPr b="0" lang="sr-Latn-CS" sz="1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Предозирање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ДТ-дијафораза,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нзим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који је слабо осетљив на оралне антикоагулансе, захтева јако високу концентрацију витамина К да би га редуковао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омогућава у клиничкој пракси да се евентуално претерано дејство оралних антикоагуланаса брзо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еутралиш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применом великих доза антидот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- витами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К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Од 12 до 24 часа после његове примене долази до нормализације коагулације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ко је потр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бно хитно нормализовати коагулацију (јако крв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. на пример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), приме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т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свеж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плазм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или концентрат фактора коагулације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Предозирање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збиљна крв</a:t>
            </a:r>
            <a:r>
              <a:rPr b="0" lang="sr-RS" sz="25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(опасна по живот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рекид варфарина, уводи се концентрат протромбинског комплекса (II, VII, IX и X) (25-50јединица/kg) или свежа смрзнута плазма 15ml/kg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Фитоменандион (5-20mg) спора интравенска инјекција?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INR&gt;8 – крв</a:t>
            </a:r>
            <a:r>
              <a:rPr b="0" lang="sr-RS" sz="25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рекид варфарина, Фитоменандион – орално (1-5 mg iv препарат) или спора интравенска инјекција (0,5-1/1-3 mg). Поновити дозу за 24 часа уколико је INR и дање висок све док INR &lt;5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INR-6-8 – крв</a:t>
            </a:r>
            <a:r>
              <a:rPr b="0" lang="sr-RS" sz="25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71400" indent="-3373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рекид варфарина, фитоменадион?, INR &lt;5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INR већи за 0,5 – прекид варфарина (1-2 дозе), пратити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INR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Остали...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682280"/>
            <a:ext cx="828036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Фенпрокумон има дуже време полуелиминације од варфарина и дуже дејство, а спорији почетак дејств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Аценокумарол (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Sinkum© 4 mg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, смеша изомера,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има кратко време полуелиминације (20 сати), дејство му почиње брзо, траје 48 сати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Деривати индандиона су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личн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ефикасни као деривати кумарина, а знатно токсичнији →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д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еривати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кумарин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е даје значајн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предност у пракси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рални антикоагуланс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Инхибитори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редукције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витамина К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664560" indent="-33372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еривати кумарина (варфарин, фенпрокумон, аценокумарол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64560" indent="-33372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еривати индандиона (фениндион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Директни инхибитори тромбина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664560" indent="-33372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Дабигатран етексилат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ролек, метаболише се у дабигатра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Директни инхибитори фактора Ха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664560" indent="-33372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Ривароксабан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64560" indent="-33372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Aпиксабан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C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16360" y="2951280"/>
            <a:ext cx="1511280" cy="95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DOAC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Дабигатран етексилат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инхибитор серин протеазе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абигатран етексилат- лек прекурсор са хидрофобним репом- конверзија у јетр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Инхибира и слободни тромбин и тромбин везан за фибрин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Пошто тромбин (серинска протеаза) у току коагулационе каскаде омогућава претварање фибриногена у фибрин, његова инхибиција спречава стварање тромб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Индикације: превенција дубоке венске тромбозе код замене зглоба кука и колена у ортопедији (једном дневно месец дана после инервенције ), превенција можданог удара  (2 пута дневно доживотно) и системске емболије у случају АФ, дубока венска тромбоза, плућна емболиј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Дабигатран етексилат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инхибитор серин протеазе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Брз почетак дејства дабигатрана после оралне примене (максимална концентрација у крви  - 0,5 до 2 сата од узимања лека)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Везивање за протеине плазме око 30-40%; волумен дистрибуције 60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l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Око 80% лека се елиминише преко бубрега, а 20% преко јетре (само процесом коњугације, без оксидације) и жучи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ndara"/>
              </a:rPr>
              <a:t>Контраиндикована је примена код пацијената са</a:t>
            </a:r>
            <a:r>
              <a:rPr b="1" lang="en-US" sz="2300" spc="-1" strike="noStrike">
                <a:solidFill>
                  <a:srgbClr val="000000"/>
                </a:solidFill>
                <a:latin typeface="Candara"/>
              </a:rPr>
              <a:t> CrCL&lt;30ml/min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Време полу-елиминације: 14-17 часов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абигатран етексилат- супстрат за ефлукс транспортног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P-гликопротеин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Инхибитори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-гликопротеина (хинидин, амјодарон, верапамил, кларитромицин,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етоконазол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, циклоспорин, итраконазол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) смањују елиминацију дабигатрана и повећавају његову концентрацију у крви (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</a:rPr>
              <a:t>а тиме и антикоагулантни ефекат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Индуктори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-гликопротеина (рифампицин, кантарион, карбамазепин, фенитоин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SSRI –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овећан ризик од крв</a:t>
            </a:r>
            <a:r>
              <a:rPr b="0" lang="sr-RS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Дабигатран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 (Pradaxa© 75/110/150mg)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јчешћа нежељена дејства: крв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, анемија, епистакса, ГИ хеморагија, абдоминални бол, дијареја, диспепсија, наузеј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сетљиви пацијенти преко 80 година старости- редукција доз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Редукција дозе уколико се узима јадено са верапамилом (узети лекове у исто време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Редукција дозе неопходна уколико постоји ризик од крв</a:t>
            </a:r>
            <a:r>
              <a:rPr b="0" lang="sr-RS" sz="2400" spc="-1" strike="noStrike">
                <a:solidFill>
                  <a:srgbClr val="000000"/>
                </a:solidFill>
                <a:latin typeface="Candara"/>
              </a:rPr>
              <a:t>.,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Редукција дозе уколико је CrCL30-50 ml/min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INR – не треба мерит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едозирање: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даруцизумаб (2016)- везује се за везани и слободни дабигатран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Дабигатран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 (Pradaxa© 75/110/150mg)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Ривароксабан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Директно и реверзибилно инхибира фактор коагулације Х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Не инхибира тромбин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Дозно-зависно утиче на протромбинско време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Апсорпција је потпуна – не зависи од присуства хране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Дејство почиње већ после 30 минута, траје око 24 сат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У високом проценту се верује за протеине плазме, волумен дистрибуције је 50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L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Делом се метаболише у јетри на C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Y</a:t>
            </a: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P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3А4, 2Ј2) (2/3), остатак се излучује у неизмењеном облику урином. Половина метаболита се излучује урином а остатак фецесом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Супстрат за транспортне протеине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P-gp и Bcrp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Време полу-елиминациј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5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13 часова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Ривароксабан (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Xarelto© 2,5/10/15/20mg</a:t>
            </a: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Индикације: превенција дубоке венске тромбозе после уградње вештачког кука или колена, терапија тромбозе дубоких вена и плућне емболије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8960" indent="-31896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Неизмењен лек и неактивни метаболити се већим делом излучују преко бубрега (две трећине унете дозе лека), а остали део лека и метаболита се елиминише преко жучи и црев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уз помоћ П-гликопротеинске пумп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ru-RU" sz="23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8960" indent="-31896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ndara"/>
              </a:rPr>
              <a:t>Контраиндикована је примена код пацијената са</a:t>
            </a:r>
            <a:r>
              <a:rPr b="1" lang="en-US" sz="2300" spc="-1" strike="noStrike">
                <a:solidFill>
                  <a:srgbClr val="000000"/>
                </a:solidFill>
                <a:latin typeface="Candara"/>
              </a:rPr>
              <a:t> CrCL&lt;15ml/min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8960" indent="-31896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ndara"/>
              </a:rPr>
              <a:t>Контраиндикована је примена код пацијената са</a:t>
            </a:r>
            <a:r>
              <a:rPr b="1" lang="en-US" sz="2300" spc="-1" strike="noStrike">
                <a:solidFill>
                  <a:srgbClr val="000000"/>
                </a:solidFill>
                <a:latin typeface="Candara"/>
              </a:rPr>
              <a:t> цирозом Child Pugh B/C,  са обољењима јетре повезаних са коагулопатијом и ризоком од клинички значајног крв</a:t>
            </a:r>
            <a:r>
              <a:rPr b="1" lang="sr-RS" sz="23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1" marL="643680" indent="0">
              <a:lnSpc>
                <a:spcPct val="9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ије неопходна корекција дозе у односу на године старости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18960" indent="0">
              <a:lnSpc>
                <a:spcPct val="95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4604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Његову к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нцентрацију у крви могу повећати лекови који инхибирају C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3А4 (нпр. кетоконазол, итраконазол, кларитромицин, еритромицин, ритонавир и др.) или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-гликопротеин (амјодарон, хинидин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жељена дејства: анемија, вртоглавица, главобоља, хипотензија, хемоптизија, крварење, повећане вредности трансаминаза, пруритис, болови у екстремитетима, повећање концентрације кератинина у крви, грозница, итд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едозирање: Андексанет </a:t>
            </a:r>
            <a:r>
              <a:rPr b="0" lang="el-GR" sz="2400" spc="-1" strike="noStrike">
                <a:solidFill>
                  <a:srgbClr val="000000"/>
                </a:solidFill>
                <a:latin typeface="Candara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- у току макрет.ауторизација у појединим земљама Европе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Ривароксабан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4604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Директни, реверзибилни, високоселективни инхибитор фактора Xа (слободну фракцију али и везану у крвном угрушку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1680" indent="-3016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Биорасположивост око 50%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1680" indent="-3016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Везивање за протеине плазме око 80%, волумен дистрибуције 21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1680" indent="-3016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еколико путева елиминације- око 25% подлеже метаболичкој разградњ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1680" indent="-3016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ајчешће се метаболише преко CYP3A4/5,  а мањим делом преко 1A2, 2C8, 2C9, 2C19, 2J2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1680" indent="-3016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ко 30% се излучује неитмењено путем урина-&gt; неопходне корекције дозе у односу на клиренс креатинин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16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16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Апиксибан (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Eliquis© 2,5/5mg</a:t>
            </a: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) 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46040" y="1341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упстрат за транспортне протеине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P-gp и Bcrp- водити рачуна о интеракцијам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4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4400" indent="-2844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еопходна корекција дозе код особа преко 80 година старости, особа са телесном масом мањом од 60kg, и креатином у серуму већим од 133µМ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4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4400" indent="-2844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релазак са варфарина на DOAK- са дозама почети када је INR&lt;2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4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4400" indent="-2844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ма клиничких искустава примене код пацијената с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CrCL&lt;15ml/min као ни код пацијената који су на хемодијализ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4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4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4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4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Апиксибан 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хибитори 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редукције 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витамина К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5680" y="1645920"/>
            <a:ext cx="830268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ndara"/>
              </a:rPr>
              <a:t>Механизам дејств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нхибиција редукције епоксида витамина К у његов активни хидрохинонски облик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нхибицијом компоненте 1 витамина К епоксид редуктазе (VKORC1)  ометају посттранслациону </a:t>
            </a:r>
            <a:r>
              <a:rPr b="0" lang="el-GR" sz="2500" spc="-1" strike="noStrike">
                <a:solidFill>
                  <a:srgbClr val="000000"/>
                </a:solidFill>
                <a:latin typeface="Candara"/>
              </a:rPr>
              <a:t>γ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-карбоксилацију остатка глутаминске киселине у факторима коагулације II, VII, IX и X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нтикагулансти протеин C и S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Down Arrow 3"/>
          <p:cNvSpPr/>
          <p:nvPr/>
        </p:nvSpPr>
        <p:spPr>
          <a:xfrm>
            <a:off x="4284720" y="3068640"/>
            <a:ext cx="431640" cy="5763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4604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иректни инхибитор фактора коагулације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0% примењеног лека се неизмењен излучује урином, док остатак подлеже метаболичким процесима и билијарној  елиминациј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ије регистрован у Србији- произвођач саветује прилагођавање дозе у случају оштећења бубрежне функције, а не препоручује се примена код пацијената који су на дијализ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упстрат за транспортне протеине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P-gp - водити рачуна о интеракцијама (циклоспорин, еритромицин, кетоконазол, хинидин, верапамил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Едоксабан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4604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стаћи важност редовног узимања терапије –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888480" indent="-264240">
              <a:lnSpc>
                <a:spcPct val="95000"/>
              </a:lnSpc>
              <a:spcBef>
                <a:spcPts val="425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Варфарин – контрола INR-a; картице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2" marL="888480" indent="-264240">
              <a:lnSpc>
                <a:spcPct val="95000"/>
              </a:lnSpc>
              <a:spcBef>
                <a:spcPts val="425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посебно DOAC- фармаколошки ефекат може да изостане након 12-24 часа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marL="3085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8520" indent="-3085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Код пацијената са АФ који узимају DOAC- бар једном годишње контролисати ниво хемоглобина, креатинина и трансаминаз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85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8520" indent="-3085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Употреба алкохола?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85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8520" indent="-3085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Варфарин-Исхрана – храна богата витамином К (кељ, зеље, спанаћ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85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85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85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Специфично саветовање пацијената 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-6037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Специфично саветовање пацијената 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-27000"/>
          <a:ext cx="9144000" cy="6710400"/>
        </p:xfrm>
        <a:graphic>
          <a:graphicData uri="http://schemas.openxmlformats.org/drawingml/2006/table">
            <a:tbl>
              <a:tblPr/>
              <a:tblGrid>
                <a:gridCol w="2124000"/>
                <a:gridCol w="1368360"/>
                <a:gridCol w="1440000"/>
                <a:gridCol w="1655640"/>
                <a:gridCol w="1297080"/>
                <a:gridCol w="125892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Варфари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абигатр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ивароксаб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Апиксаб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Едоксаб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8a8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потреба на дневном ниво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4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 дневно прем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N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4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нев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4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 или 2 пута днев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4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пута днев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4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нев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4e2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скочена доз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зети пре поноћи истог д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зети што пре истог дана а најкасније 6 сати пре наредне доз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х дневно- уколико је прескочена једна доза друга се може удвостручи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х дневно- узети што пре истог д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зети што пре истог д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зети што пре истог д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1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дминистрациј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4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а или без хран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4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уна чаша воде, са или без хран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4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а храном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4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а или без хран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4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а или без хран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4e2"/>
                    </a:solidFill>
                  </a:tcPr>
                </a:tc>
              </a:tr>
              <a:tr h="286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Ломљене фармацеутског обл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е, прогутати целу без отварањ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а (уситнити, помешати са водом или соком од јабуке непосредно пре примен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а (издбробити и суспендовати у води, 5% раствору декстрозе у води, соку/пиреу од јабуке- стабилни раствори до 4 сата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1988640"/>
            <a:ext cx="821844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Нежељена дејства хепарина</a:t>
            </a:r>
            <a:br>
              <a:rPr sz="3300"/>
            </a:b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 Дозирање хепарина</a:t>
            </a:r>
            <a:br>
              <a:rPr sz="3300"/>
            </a:b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Разлике између нефракционисаног и фракционисаних хепарин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46040" y="1393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Случајно откривен 1916. годин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1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1160" indent="-28116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Група мукополисахарида (сулфатисани гликозааминогликани) (МТ 3000-30000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1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1160" indent="-28116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У гранулама мастоцита, базофила...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1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1160"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Везује се за антитромбин III (пентасахаридном секвенцом) и активира га (мења му конформацију и повећава афинитет-1000х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81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81160"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Инхибира тромбин и факторе 9 и 10 (11,12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81160"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81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Превенира стварање фибрина из фибриноген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81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Хепарин појачава и инхибиторно дејство кофактора 2 на тромбин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81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281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1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1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Хепарин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155" name="Straight Arrow Connector 4"/>
          <p:cNvCxnSpPr/>
          <p:nvPr/>
        </p:nvCxnSpPr>
        <p:spPr>
          <a:xfrm>
            <a:off x="2556000" y="4508640"/>
            <a:ext cx="288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Straight Arrow Connector 6"/>
          <p:cNvCxnSpPr/>
          <p:nvPr/>
        </p:nvCxnSpPr>
        <p:spPr>
          <a:xfrm flipH="1">
            <a:off x="2123280" y="5300280"/>
            <a:ext cx="1585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460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омерцијални прерарати- хепарин из црева свиња или плућа говеда (разликују се по јачини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иолошка стандардизација активности- дозе су изражене у  јединицама активности (IJ) а не у маси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Хепарин натријум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ефракционисани хепари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02280" indent="-3024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ацијенти са БИ код којих је индиковани примена LMWH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022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оступни фармацеутски облици: раствор за инјекцију, гел и крем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еднизолон, хепарин натријум и полидоканол –супозиторије или ректалне масти за лечење хемороид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Хепарин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4604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4840" indent="-294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Је изузетно поларан (високо јонизован) и има велику молекулску тежину па се не ресорбује из ГИТ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48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4840" indent="-294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ењује се iv (дејство почиње одмах) или sc (почетак деловања одложен и до 60 мин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48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4840" indent="-294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m инјекције могу изазвати хематоме- Не!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48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4840" indent="-294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Т1/2 40-90 мин- у хитним стањима започиње се терапија iv болус инјекцијом (5000IJ у  5 min) а наставља континуираном iv инфузијом (1400IJ по h (после 6 сати доза се коригује на основу аPTT)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48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4840" indent="-294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PTT(1,5-2,5 пута веће од контроле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48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4840" indent="-294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е пролази плаценту и не пролази у мајчино  млеко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48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Хепарин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460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ојачано антикоагуланто дејство уколико се хепарин примењује са лековима који такође остварују дејство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 систем коагулациј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lnSpc>
                <a:spcPct val="95000"/>
              </a:lnSpc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инхибитори агрегације тромбоцита (ASK ,NSAIL)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lnSpc>
                <a:spcPct val="95000"/>
              </a:lnSpc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SSRI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lnSpc>
                <a:spcPct val="95000"/>
              </a:lnSpc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Тромболитици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lnSpc>
                <a:spcPct val="95000"/>
              </a:lnSpc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Антагонисти витамина К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lnSpc>
                <a:spcPct val="95000"/>
              </a:lnSpc>
              <a:spcBef>
                <a:spcPts val="326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Декстрани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 marL="3121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стовремена примена са АЦЕ инхибиторима и сартанима повећава ризик од настанка хиперкалијемиј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ена инфузије глицерил тринитрата смањује АКЕ хепари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ако се хепарин сме примењивати у трудноћи водити рачуна о конзервансима у препарату (метил/пропил парахидроксибензоат-избегавају се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212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Хепарин интеракције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46040" y="12553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Хеморагиј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925200" indent="-383760">
              <a:spcBef>
                <a:spcPts val="425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прекид примене хепарина + протамин сулфат (iv) (1mg неутралише 100IJ у претходна 4 сата)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Тромбоз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Тромбоцитопенија (ХИТ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925200" indent="-383760">
              <a:spcBef>
                <a:spcPts val="425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Пролазна рана-3-5 дана није клинички значајно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2" marL="925200" indent="-383760">
              <a:spcBef>
                <a:spcPts val="425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Одложена- &gt;6дан – IgM IgG  антитела- везују се за тромбоците 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стеопороз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925200" indent="-383760">
              <a:spcBef>
                <a:spcPts val="425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Дуготрајна терапија &gt;6 месеци- посебан опрез труднице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Хипоалдостеронизам (последична хиперкалијемија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925200" indent="-383760">
              <a:spcBef>
                <a:spcPts val="425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Ако терапија траје дуже од 7 дана контролисати нивое калијума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Грозница, болови у костим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Алопециј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Алергијске реакције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925200" indent="-383760">
              <a:spcBef>
                <a:spcPts val="425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поред хепарина и на протамин- риба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2" marL="9252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Нежељена дејства хепарин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Секвенца од 5 аминошећера (МТ 4000-6000 Da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нхибирају само дејство фактора Xа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Исти ефекат али им дејство дуже траје (т1/2 4 пута дуже у односу на хепарин па се дају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sc на 12 сати или једном у 24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 мањој мери изазивају тромбоцитопенију и остеопороз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 захтевају праћење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aPTT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злучују се путем бубрега доминантно (око 80%; т1/2 продужено код пацијената са БИ)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LMWH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хибитори 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редукције 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витамина К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5680" y="1645920"/>
            <a:ext cx="830268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ndara"/>
              </a:rPr>
              <a:t>Механизам дејств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еопходно је да протекне неколико дана за испољавање ефекта варфарина (време за разградњу претходно карбоксилисаних фактора коагулације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ајпре се испољава дејство на фактор коагулације VII (т1/2= 4-6 сати) а затим на факторе II (т1/2= 42-72 h), IX (т1/2= 21-30 сати) и X (т1/2= 48-72 h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460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нкосапарин (4500 Da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Далтепарин (6000 Da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Ревипарин (4400 Da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адропарин (4300 Da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Тинзапарин  (6500 Da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LMWH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460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Дозирање зависи од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Врсте LMWH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ндкициј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Фактора ризик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Телесне мас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Реналне функциј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ndara"/>
              </a:rPr>
              <a:t>Off-label use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LMWH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4604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sc примена- уобичајно место примене је латерални зид абдомен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гла се уводи вертикално у набор коже направљен палцем и кажипрстом који је мора пажљиво и чврсто држати док се не заврши убризгавањ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е масирати место примене!!!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Свакога дана лек применити у исто време!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Контролисати крвну слику због ризика од настанка тромбоцитопениј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LMWH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4604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Јанковић С. Приручник за практичну наставу и фармакологије и токсикологије. 2018, Факултет медицинских наука, Крагујевац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Rang i Dal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Farmakologija, 8. izdanj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9,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Data Status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Joint Formulary Committe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BNF 78 (British National Formulary) September 2019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9,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acmillan Distribution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ndara"/>
              </a:rPr>
              <a:t>Katzung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ndara"/>
              </a:rPr>
              <a:t>B, Trevor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А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Basic and Clinical Pharmacology, 14th Editio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2017,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cGraw Hill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Whittlesea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C, Hodso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K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Clinical Pharmacy and Therapeutics, International Edition, 6th Editio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 2018,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Elsevier Science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Wiffe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P, Mitchell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, Snelling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, Stoner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Oxford Handbook of Clinical Pharmacy (Oxford Medical Handbooks)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7,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Oxford University Press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АЛИМС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Urednici:, Nenad Ugrešić, Vesela Radonjić, Ljiljana Đukić, Violeta Stanimirović, Branka Terzić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Farmakoterapijski vodič 6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6.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Agencija za lekove i medicinska sredstva Srbij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Beograd.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mPC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лекова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Candara"/>
                <a:hlinkClick r:id="rId1"/>
              </a:rPr>
              <a:t>https://www.alims.gov.rs/ciril/lekovi/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Kalvemark Sporrong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Kaa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Communication in Pharmacy Practic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9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DPIBasel, Switzerland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Walker R, Whittlesea C. Clinical Pharmacy and Therapeutics. 2012 Elsevier Ltd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Литератур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46040" y="1680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Добро се апсорбују из дигестивног тракта, продиру у сва ткива, метаболишу се у јетри, а метаболити се излучују урином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Пролазе кроз плаценту и делују тератогено; зато се не користе у трудноћи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арфарин доводи до хипоплазије носних костију и калцификације епифизе, уколико га труднице узимају током првог триместра трудноћ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хибитори 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редукције 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витамина К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хибитори 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редукције 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витамина К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5680" y="1645920"/>
            <a:ext cx="830268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лиморфизам VKORC1 генома –&gt; различити хаплотипови  имају другачије афинитете за варфарин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Генотипизација (VKORC1  и CYP2C9)  може да смањи варијабилност одговора на варфарин за 1/3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Варфарин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6040" y="1680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цематска смеша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S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- и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R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- енантиомер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S-енантиомер је око 2-5 пута потентнији (АК) од R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- енантиомера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ли има и     клиренс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Брзо и поптпуно се апсорбује након оралне примене (храна може смањити степен апсорпције али не драстично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али волумен дистрибуције (0,14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l/kg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/(7-14L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високом проценту вез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је с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за протеине плазме (више од 9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9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%)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29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101" name="Straight Arrow Connector 4"/>
          <p:cNvCxnSpPr/>
          <p:nvPr/>
        </p:nvCxnSpPr>
        <p:spPr>
          <a:xfrm flipV="1">
            <a:off x="4284360" y="2491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Варфарин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6040" y="1680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етаболише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е 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јетри под дејством цитохрома П450, и то изофор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C9, 2C19, 2C8, 2C18, 1A2, и 3A4 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 његови метаболити се излучују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урином и прек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жучи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YP2C9-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S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варфарин -&gt; хидроксиварфарин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CYP1А2/3А4- 2’ алкохол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AVCL=4,5l/дану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Изузетно мала количина се елиминише неизмењена урином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ајвећи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нтикоагулациони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фекат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стиже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за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72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до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96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акон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четка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лечењ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Дејство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траје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још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4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до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5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дана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акон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завршеног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лечењ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2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Варфарин (Farin© 5mg-Варфарин натријум)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зир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ње: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индивидуално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по шем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‟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, на основу контроле протромбинског времена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588240" indent="-2955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Започиње се стандардним дозама 5-10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mg (2,5-5 за осетљиве популације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88240" indent="-2955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ровера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INR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свакога дана и титрирање дозе до постизања адекватних вредност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91600" indent="-29160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Ефекат оралних антикоагуланаса на протромбинско време се изражава кроз INR (International Normalized Ratio).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291600" indent="-29160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птимално дејство оралних антикоагуланаса се постиже ако је INR у опсегу 2,5 до 3,5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(у зависности од индикације)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User13</cp:lastModifiedBy>
  <dcterms:modified xsi:type="dcterms:W3CDTF">2021-01-29T09:01:39Z</dcterms:modified>
  <cp:revision>364</cp:revision>
  <dc:subject>Klinicki farmakolog</dc:subject>
  <dc:title>Predavanje za sajt fakulteta</dc:title>
</cp:coreProperties>
</file>